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95249"/>
        <c:axId val="23970173"/>
      </c:barChart>
      <c:catAx>
        <c:axId val="70595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70173"/>
        <c:crosses val="autoZero"/>
        <c:auto val="1"/>
        <c:lblAlgn val="ctr"/>
        <c:lblOffset val="100"/>
        <c:noMultiLvlLbl val="0"/>
      </c:catAx>
      <c:valAx>
        <c:axId val="23970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5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4D7-349B-4C0C-AAAF-E1A7B7B7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15E-4227-4342-9619-D42C689C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795-81D4-4E6E-86D2-B7EC7933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E88-E69C-4878-81C8-AC87F30E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D65-97F6-41EE-BED7-D5BEDEB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745-CE99-4AD2-B025-5A8F5F8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D56-AE72-4F0F-B8D3-13B1350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BD5-F78D-4392-9D17-F66873D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DF1-D6CD-4198-A313-51B9FB1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1F2-1896-4F16-90AF-DAF0AB0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C70-996B-49AA-9798-075F102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365-EB27-42B8-92D8-E172FFB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999DB-063F-4605-8198-DA79A26D1D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