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944942"/>
        <c:axId val="11216960"/>
      </c:barChart>
      <c:catAx>
        <c:axId val="149449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16960"/>
        <c:crosses val="autoZero"/>
        <c:auto val="1"/>
        <c:lblAlgn val="ctr"/>
        <c:lblOffset val="100"/>
        <c:noMultiLvlLbl val="0"/>
      </c:catAx>
      <c:valAx>
        <c:axId val="11216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449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8A5-8010-4949-9FD8-C8399E91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9616-8120-40D3-BD3E-ED51BC78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A0CB-4462-430E-B565-7CDCB4F0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367D-B6A1-416A-A088-D10654B3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70E9-4431-4C4D-80FD-3EE56663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CC89-D85B-4BED-9E6C-75E3FEB1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D791-B402-4A9D-ABBF-DD026495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D35-C922-45F8-B888-FDD85B06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C02A-4BC0-4075-BD5E-70FB2BBC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ED82-175E-40A5-B76B-7155D71F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334B-A990-4CB5-A38B-97B5204F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D184-C2F5-40FD-B153-ECD5045F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97A89-8CAA-4CCD-9332-A573BEB8C9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