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02449"/>
        <c:axId val="36242370"/>
      </c:barChart>
      <c:catAx>
        <c:axId val="32902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42370"/>
        <c:crosses val="autoZero"/>
        <c:auto val="1"/>
        <c:lblAlgn val="ctr"/>
        <c:lblOffset val="100"/>
        <c:noMultiLvlLbl val="0"/>
      </c:catAx>
      <c:valAx>
        <c:axId val="36242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02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608-6C55-4B98-AFD2-04C94C4E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F4E-557B-4A2C-A207-E7558C1A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5F7-53EF-4A02-AABC-A5F0DBA5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AB3-F7A2-4986-8D04-8B6A89F7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B25-18E9-42E5-99A0-3267BA99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A09-FAF2-44D6-A17B-B2ED85E8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771-11C9-4632-ABBD-03BA936D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6C6-E0F3-48D1-9B40-5550B099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1DF-2C88-4606-A4CD-1BBD69F8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A4C-EB94-402B-9E40-C50261A4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DF5-6ABB-4C68-B926-DA20D4B7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8C4-05E2-47D5-BD77-18D99537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D8422-213F-4ED2-A35E-15316FFC9F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