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68028"/>
        <c:axId val="96587788"/>
      </c:barChart>
      <c:catAx>
        <c:axId val="92068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87788"/>
        <c:crosses val="autoZero"/>
        <c:auto val="1"/>
        <c:lblAlgn val="ctr"/>
        <c:lblOffset val="100"/>
        <c:noMultiLvlLbl val="0"/>
      </c:catAx>
      <c:valAx>
        <c:axId val="96587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68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A3C-2392-4DB0-97BC-31D86F5A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D87-2EE8-4BB3-92F9-A376DE6C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7CC-9B0F-425D-9478-B0417D55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9B6-5B59-4390-B0B2-E760BA74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E33-C7DF-4FE5-9FDD-02EDD32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A28-FC6C-43A3-B4F4-E0C00A63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D69-FFBC-4FB8-AE1D-886E4D59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1F0-BEDD-480C-952D-0E1959E1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FF0-C3D9-40F4-8F05-B4A44A49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4A7-3A92-4F63-8DE3-2B2EB1F9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782-94E8-4CEF-9293-DD38CA6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8EB-25F2-4A03-B809-3408B830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95282-0700-4DC9-B406-81D0E49532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