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850390"/>
        <c:axId val="96570800"/>
      </c:barChart>
      <c:catAx>
        <c:axId val="318503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70800"/>
        <c:crosses val="autoZero"/>
        <c:auto val="1"/>
        <c:lblAlgn val="ctr"/>
        <c:lblOffset val="100"/>
        <c:noMultiLvlLbl val="0"/>
      </c:catAx>
      <c:valAx>
        <c:axId val="965708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503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6C1-8808-4C0E-A573-667CD127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509-2AFB-4913-9B7D-19B484E0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0E25-545D-4731-93DE-7788679F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0F4-902F-475E-BA5D-BFD2B930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18D7-3518-4012-86CE-69EC3C6D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389-1F3D-481B-A69E-E0CC43BA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26E-8750-485D-A1F8-D06BFAF0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F1C-38B3-4634-BD1F-138564EC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FF0E-9E0A-4151-9FD9-2F7C3CE3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1B13-8BDE-4067-9523-57D48271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A957-B67F-4BB5-8660-A913B5CB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5D3-60A7-4383-B184-8A29C7E3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B14D1-5346-4898-9A27-74FE5224EF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