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575448"/>
        <c:axId val="1974325"/>
      </c:barChart>
      <c:catAx>
        <c:axId val="755754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4325"/>
        <c:crosses val="autoZero"/>
        <c:auto val="1"/>
        <c:lblAlgn val="ctr"/>
        <c:lblOffset val="100"/>
        <c:noMultiLvlLbl val="0"/>
      </c:catAx>
      <c:valAx>
        <c:axId val="19743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754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693-DD3B-429A-9FF8-7E40CAEA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9E8C-60E9-4E66-8E5C-D7DEDC9C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61C3-EB53-4338-B7F5-D8891F9D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FAA2-A18A-43B1-B9EC-0268C8D5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FC8F-381E-4811-8101-2F9A4A22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7B6C-AE50-4715-9D2A-084D1B84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582C-696F-4718-A9A5-6541F10E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CA5F-F9A8-42DE-81CA-43AF0A8F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BFD8-6938-460A-8F90-A3DA5037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5DE9-2914-4F27-A74C-7B17D8EC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43DA-3862-484F-A051-7A712BB9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45ED-BAA7-4F48-B890-3C17B488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2E4FC-F96A-458E-BE17-3EF7E15659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