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577183"/>
        <c:axId val="37702169"/>
      </c:barChart>
      <c:catAx>
        <c:axId val="625771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702169"/>
        <c:crosses val="autoZero"/>
        <c:auto val="1"/>
        <c:lblAlgn val="ctr"/>
        <c:lblOffset val="100"/>
        <c:noMultiLvlLbl val="0"/>
      </c:catAx>
      <c:valAx>
        <c:axId val="377021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5771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A8B7-29BD-4130-91E9-F36E04FA0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3A33-4B59-465D-B84C-62EF904F3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8E0B-3151-4994-B009-D8FE2AF16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D40A-1BE2-44BC-B587-CF55F37AC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DC35-5D10-4D1B-BF0D-AB5F0B605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8F3B-0DEC-4655-951D-8CB6B3BC9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F3E2-1D97-4229-976B-2CEEBCAB6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78F3-7075-4DED-A6A1-119C4E7D8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A74C-96D3-481E-B020-697629843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AA38-C0B1-4C95-A707-4B6D1F1C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1D1F-FE33-4485-B4D2-F9DAAE51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CFB9-E443-4287-BB49-6F848061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3352E7-68F4-4EF9-9EB2-D11D7845C2E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