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258891"/>
        <c:axId val="71383477"/>
      </c:barChart>
      <c:catAx>
        <c:axId val="662588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83477"/>
        <c:crosses val="autoZero"/>
        <c:auto val="1"/>
        <c:lblAlgn val="ctr"/>
        <c:lblOffset val="100"/>
        <c:noMultiLvlLbl val="0"/>
      </c:catAx>
      <c:valAx>
        <c:axId val="713834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588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D54F-4E1D-4954-9985-B3D4DA62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E983-65BE-47F7-9913-2E0FA09A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758E-7CF4-4748-87D8-A96A9A8B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B94A-E740-463E-9B62-2A8F6966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BA52-82BA-4991-A537-B2BA1D53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FE3E-42C8-48BE-A046-C38F11AE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9B7C-B640-440F-98DE-67018474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DFD5-E7A7-4C38-941A-504E3932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4D27-4282-4FDE-B1AA-4C53ACC5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DC59-C9BD-4D5D-8FAA-B54DAF81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7B02-C23A-4D1E-8393-7EE0BA00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3996-CFC1-4B76-8EF4-A1F0690E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2BD95-5DB6-4685-9CC9-2A97673B7C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